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D60B5-827F-4C8F-9848-90A8B5F9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33EDB-F043-4EA8-A7EB-14532575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831C-4940-4EA7-B456-44638BAB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D15C1-83C2-42D4-9960-6ACF5942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93AD-4887-4071-8A0D-15551286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AF63-883C-4446-82F0-82121416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550F-267B-42CA-B421-5EC5677C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5F35-1737-4A99-ADC6-1148E49C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1F14-F588-4FD2-A63F-65FA0630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DAAA-F830-4F8D-9574-CD962A3B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6B24-AE46-4807-B6EC-514B12F7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C764D-D9D2-4382-B999-DDB6F6E1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D4E8-CB63-4333-89BD-7082914E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716C-E9F3-4ABA-A6C4-C62CD456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21D3-C078-4CA1-86FB-7FE5FCAC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5566-37A0-4080-ABDD-C08733CD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97E7-F6A2-444F-98F8-AFAF24F4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BC9E3-5E51-49EC-A0DD-8880F707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661AB-865F-49A3-8B4B-013FE97E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DD264-5533-49BD-8473-A782D45A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9F44C-265E-400E-A474-B888E269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A2A14-0D76-4BE8-970E-D751CF5F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62AF-BB19-4361-B67B-5AD0AE37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A6C73-0797-42F7-9BBF-67C11879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FD002-03E6-4B4E-8C0C-3863F39C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E900A-3325-429D-92D4-B3FA6DE1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C4285-F889-4D95-967D-957939D9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07909-C0F4-4C4B-BA51-6EBB79A8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EF909-C616-4998-B2AC-21644E21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E3E18-CA84-49EC-8A25-4DDDE735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57A34-BFF0-40D2-92E0-9EE7B1D5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AFB9E-BD61-438A-AFFB-DF513A7C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7BAF9-ACAF-4229-A2F8-8F89F5F8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3EF19-C0CD-4FB9-96C7-823B9553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AE4DF-1504-407F-AF6E-2F987DEF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E3478-14F2-4343-89BA-C8A5F069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9303-B319-4E61-B249-8CDA8003E0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D1FF-951C-405E-A46A-F9CBEB0E7F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3579-5D3E-41CF-B375-500C6D6DBF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EVOLUTION OF AGRICULTURAL AND FOOD MARKETS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Walter J. Armbruster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onald D. Knuts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marketing policies and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ing of agricultural and food products takes place within the framework of a set of federal policies and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policies and programs influence the production and terms of trade throughout the agriculture and food marketing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markets evolve, policies and programs need to adju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ricultural and Food Market Ev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t markets to central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rect marketing to forward pricing and vertical integ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umerism to reg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lobalization to value-chain marke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teria for Evaluating Performanc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chnical efficiency exists when production occurs at minimum c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cative efficiency involves the allocation of scarce resources among products, production activities, and uses to maximize welf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ynamic efficiency measures how well markets innovate to adjust/adapt to change over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teria for Evaluating Performance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market social val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tributive justice, or redistribution of wealth and economic benefits generated by the private secto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alues driven by various interest group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rit goods such as food safety, nutrition and healt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cp:lastPrinted>2012-01-30T14:40:42Z</cp:lastPrinted>
  <dcterms:modified xsi:type="dcterms:W3CDTF">2012-06-05T16:28:18Z</dcterms:modified>
  <cp:revision>63</cp:revision>
  <dc:subject/>
  <dc:title>U.S. Policies Affecting Food and Agricultural Marketing</dc:title>
</cp:coreProperties>
</file>